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  <p:custShowLst>
    <p:custShow name="Nowy niestandardowy pokaz slajd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C3F-4C1E-44EB-AD4E-9D3753D5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D40-D20E-454F-901C-9772F185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023-8ADE-4AEE-BE50-281CBA4A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1C9-2F73-4148-B291-6AB76CA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162-2EE7-4259-B096-2695C49C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54A-AD67-4328-8CC3-79867F6C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665-304D-4132-AD27-A9172D4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47F-2FAD-472C-A402-0692A50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B14-22B7-486E-966C-1046A05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019-E69F-4744-8CF8-CFAC7E4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018-E864-4FB1-B7A8-059D1B4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E9F-6DC1-48D8-B76D-A564771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87A19-7835-45D4-B8D3-4642B93B037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ien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2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y Ko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łom Dunaj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iszek pieniń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le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a, torfowi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ica torf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, bocian czarny, żółw błot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0" y="4067280"/>
            <a:ext cx="36003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08200"/>
            <a:ext cx="9036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ztoc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83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ik po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zcza Jod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ła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14800" y="4140360"/>
            <a:ext cx="3624120" cy="34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>kamil tomaszewski</cp:lastModifiedBy>
  <dcterms:modified xsi:type="dcterms:W3CDTF">2010-05-17T13:01:58Z</dcterms:modified>
  <cp:revision>14</cp:revision>
  <dc:subject/>
  <dc:title/>
</cp:coreProperties>
</file>